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ED48-9FD4-48F0-A1B5-2928CC3D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3876-B5B8-4CC0-8743-39902FDA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072F15-A4F1-474C-977C-B411054C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C393EC-18E9-41E8-93EA-147FC9A2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494354-0C91-4F7C-8D76-76F5B9EC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49847D-591A-4F28-8481-1856DE5E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0C4033-7A90-478D-93E2-6DFC6A18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A7A4F0-95BF-4BE1-AFE2-A1178AFC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EEBF4F-F42A-43D7-AC8E-CAFA6367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712F02-DA3A-41C5-97A3-942A266B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C6C6DE-2691-41C9-9E70-A0CD48B28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9274BB-4068-4109-9A8A-82F1A0889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4BC1-C3D3-4BC3-B41C-E1EF4D9A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0EED0F-EF59-4350-A300-9EF0DAC0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7E6232-2793-4CD8-A18F-E5D9EAE9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910CCB-566F-4E40-96F8-6B4B3875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638E0B-59AF-42E7-B295-8EE28AFA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47775C-A4D7-4FBE-839A-899877AB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69BD42-73FE-4B09-8148-32A0AAB4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D33B44-9677-4D54-A0BA-A75DDCEF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1C224F-1E5A-4577-BE64-758293DC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8BC781-4CDD-416B-AD3A-D90B3333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0FF986-22F8-4FBC-9A3A-E60612BE6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D77D-1E3F-474A-AB36-3CC4CCEA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8475AD-4761-4E86-A9D3-0296754D5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9E86D-A0C6-4F70-A7D9-E6243F8D3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CAEB3-9EF2-4898-B90C-3CEC7DBB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F6999-D96E-4306-93E9-C615C843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F5D5F-52A2-44E0-8062-84E96972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B709B-F1EF-41FE-85EA-ED95F429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4739B-B87A-4E19-A263-D0F9E224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5BDB6-44C5-4DF3-B6D3-6F53ABD9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73429-AD08-4E40-BC40-4AA05BB3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AF97E-20DF-44FE-BCD8-C827AAD2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0CE3F-A995-48A5-A6F6-28F4E466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08664-9462-4FEE-BB58-D578BB39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DBE52-8FDE-4863-916C-2B76BB9B3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D748F-7D23-42C2-9B21-5FAD6DB8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AF8B0-C9F9-47AB-A776-E0DA0461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A4BB09-003A-44FC-BEA2-E1ED6357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290E8-250B-4B0C-ABC4-C5316DDA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F11B2-425E-4218-B77E-C024D5E1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A9573-DDC1-42FE-95FB-BE2F8324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B4AA43-BD69-4A4A-986E-9AB18FCC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0FB029-87E7-490C-9998-2543DB3E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6D32A-E119-4A41-813C-98F29573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E852A-C383-4AAE-88DB-252AA840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C5F74-60A5-4B71-B16C-0F41C8CF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E3748A-413D-4E67-B4A2-09C0575B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F8151D-CBB0-4BEB-AC36-3BFCABA56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E6BD54-872D-488E-8E4C-60DB3939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85AED-F67D-4262-A223-2F7307F5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E201A-7BFF-4190-ACEA-A6A1E381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E0D08-C28E-4546-B3BA-1F231CB4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2D2B3-E35B-45FB-9C27-05B82908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6CCD6-D977-4E96-AAC3-096AC302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0A7C-42CA-4289-9131-A55C97A2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4A2CA-B707-4B9D-AF82-6F6006D4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AB02A-8170-4B93-AFB5-103CF265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506B2-978C-4EE7-8BC3-278C7D04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EE050-3967-4CED-99BD-D065DA39F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CB7FA-60C6-40A7-AE9F-1B426EA6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8855A2-CBE0-4A5E-A000-12A59705D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E7AE58-08E4-49ED-9C0E-F8843ADF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0324C5-D192-4BD1-A3C1-71A3C424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4D77B4-2925-4D3A-B506-E608529E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1A84DF-D64F-4474-A0E6-476CC8F7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6A6C-44A6-4D97-BCAE-8E4422F5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ABBD11-41CC-4978-8FDC-76B54F3D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E96D8D-FFF6-45A7-A347-3D2C9864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BEF735-AB13-4199-8B36-F4DF52A8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71CE3B-4F26-49C6-A810-387474A6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7EB621-105E-4ACB-A2F2-4DCFE482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85CFCD-3EE2-4D99-86B6-2DADFD50C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D78919-7420-430E-A7AC-02B0B6056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F5978E-D3B4-47B7-AA53-86CFA6890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74422B-517F-4369-A9E2-7E28B2C4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FCBBBF-B8B8-4DD0-BB83-EB664E17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AB66-541F-4965-81BC-00A250EF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C05F9B-DBD6-4C7E-AF83-1B057A1F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49F524-DF0B-4F37-99D3-F232C68A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47F086-CC91-4A30-8F8E-4D1203FB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5F8B79-4AFC-49A1-960E-D8877815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300902-1229-4B5B-BEEE-7692BABA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1EED7A-DC59-464D-BAAF-C6195107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F38E45-593C-48A1-9506-8C09444B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397877-994B-4B88-8FC7-D3722E66A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5243C1-C4D4-40B3-896C-A5E8A0949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5F2C69-FA0E-420A-AF17-5708C874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3E7F-97D1-4650-9891-5AFC6936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CDDE2B-3007-4178-8C6F-0A78005D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E17ECD-2071-44D2-A470-9246F31B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0A5AC9-8961-4435-B25C-2BF5372F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778F24-48E0-4C83-ADCA-C6278279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DA6B5E-AA84-45D6-A2EC-B8FFC771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488AB7-3CCB-4261-A78A-C63B00D5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E99D81-FA75-459F-A497-8F903134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D36B4E-DA9C-4447-BC19-CAC99DFA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A61299-1157-419E-AB33-FF4786C1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9D1455-2712-4870-92AF-717A3325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DBCF-86F9-4664-BF77-A07F1F7D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D2A05A-0C5D-4AB1-A7CD-6C40CA35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8A1C42-303C-4DF6-9E11-BA437C2A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409D7A-BBD0-4930-A144-7DEB12CE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96B6B5-4D8F-4EE4-A6A4-018CA418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3FCB8A-827E-41DF-90E8-AE8E33BE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7BC003-34D2-4079-A32A-BEDF6713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847A62-F25C-4122-BE5F-5373A246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E5FDA9-4C51-4F9D-BFFC-CF6AE4DF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B822F8-FD45-4C3E-871D-47542407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DD6EFD-5F69-4397-950D-2EA23560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8318-9AC9-4326-927E-1380E378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C8F6A9-692C-4167-BA0B-27D988C0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F563B3-E748-4786-AA04-6809036FF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A505F6-F7C1-48EA-85D9-81B3E2D09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83E944-BFC1-49C6-A8DA-AA2DC68D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3EAB66-37A6-483C-B60C-73BB461F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5BCF0E-0913-4A0B-BCF4-F85DE2A2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1BD606-C19C-4D7C-B3BA-149FA5E4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4743F3-7B8A-4E35-9396-67B4E70C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352397-78E5-4307-8327-9A4D6057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90FEC3-28BD-43A3-B2DA-8043AB45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2A4C-794C-40F7-856F-A5FBB81B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B41492-68B7-48BD-9831-88DC6843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FC57AC-D4BE-4235-B143-902548AF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69D606-D033-45EE-A855-0FF6A6E2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9E2176-90D8-4FF5-9403-F0FBF5323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407F4A-366B-443B-9968-098A4A027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06B7B7-B519-4D50-8563-43DBA383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47435D-ECC1-4ACB-95A7-112BEF3B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6015B5-9E19-4BA6-9545-AE7D58F5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0F3400-EF1B-43DD-923F-1013BA5C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790DCC-DED2-40A3-A672-0AE6AF88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7BB4-7BE9-417C-B526-94E93184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15B167-F7E3-491A-A563-E2D3D152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8F3CCD-A441-427A-8A65-7B94DF89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380937-1878-4271-A9BE-FBB683BB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041B7C-B894-4F8B-B4BF-C4673778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7085EB-B757-4401-BB99-55CBB058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BB031D-5D9F-4B6A-A0E8-F05101453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F39C25-5D2E-451D-A68C-E09E3E51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B9DE9C-BCFD-403A-9C6A-64F01763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6AC510-23A4-4071-95C1-381327EC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CA28F5-4BDF-49C0-BC9B-FF5DF1D6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D5B3-23AA-49E8-BAD2-E0827894088E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Straight Connector 8"/>
          <p:cNvSpPr/>
          <p:nvPr/>
        </p:nvSpPr>
        <p:spPr>
          <a:xfrm>
            <a:off x="0" y="5695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29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7D19-E7F9-4D7C-8900-FC81F637DF8D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30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CB37-ED3F-4B55-BFF9-C7845A970C92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79C2-5362-45AE-A14F-04FAFFA65BDF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4743360"/>
            <a:ext cx="9144000" cy="211464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0" y="4714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0A8A-3C83-44CE-951F-1308BCECDB84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D8F9-18EB-44D3-964F-5FEC054CA482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Straight Connector 8"/>
          <p:cNvSpPr/>
          <p:nvPr/>
        </p:nvSpPr>
        <p:spPr>
          <a:xfrm>
            <a:off x="-4680" y="182880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1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6F88-C415-4B43-986C-71A678A496BC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4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2758-A984-4D50-BC7A-BBA235F0A547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5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7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65D8-3CC9-43EE-893B-777139118869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8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20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4727-0A8F-4BB7-941E-6D8C955CB67B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1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8A33-31D9-4B1B-BA1A-1DA5F5DB7BEC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4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Straight Connector 8"/>
          <p:cNvSpPr/>
          <p:nvPr/>
        </p:nvSpPr>
        <p:spPr>
          <a:xfrm>
            <a:off x="0" y="5695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26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1BE4-2CFB-4542-BBFE-178DBC04D660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ftr" idx="27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3"/>
          <p:cNvSpPr/>
          <p:nvPr/>
        </p:nvSpPr>
        <p:spPr>
          <a:xfrm>
            <a:off x="2666880" y="1600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                      ni                   me          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11" name="Title 1" descr=""/>
          <p:cNvPicPr/>
          <p:nvPr/>
        </p:nvPicPr>
        <p:blipFill>
          <a:blip r:embed="rId1"/>
          <a:stretch/>
        </p:blipFill>
        <p:spPr>
          <a:xfrm>
            <a:off x="682560" y="1566720"/>
            <a:ext cx="7693200" cy="164016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0" y="5486400"/>
            <a:ext cx="31240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ja-JP" sz="1800" spc="-1" strike="noStrike">
                <a:solidFill>
                  <a:srgbClr val="ffffff"/>
                </a:solidFill>
                <a:latin typeface="Corbel"/>
                <a:ea typeface="HGｺﾞｼｯｸM"/>
              </a:rPr>
              <a:t>アンドリュ、</a:t>
            </a:r>
            <a:r>
              <a:rPr b="0" i="1" lang="en-US" sz="1800" spc="-1" strike="noStrike">
                <a:solidFill>
                  <a:srgbClr val="ffffff"/>
                </a:solidFill>
                <a:latin typeface="Corbel"/>
                <a:ea typeface="HGｺﾞｼｯｸM"/>
              </a:rPr>
              <a:t>(Andrew)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ffffff"/>
                </a:solidFill>
                <a:latin typeface="Corbel"/>
                <a:ea typeface="HGｺﾞｼｯｸM"/>
              </a:rPr>
              <a:t>コナー、</a:t>
            </a:r>
            <a:r>
              <a:rPr b="0" i="1" lang="en-US" sz="1800" spc="-1" strike="noStrike">
                <a:solidFill>
                  <a:srgbClr val="ffffff"/>
                </a:solidFill>
                <a:latin typeface="Corbel"/>
                <a:ea typeface="HGｺﾞｼｯｸM"/>
              </a:rPr>
              <a:t>(Connor)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ffffff"/>
                </a:solidFill>
                <a:latin typeface="Corbel"/>
                <a:ea typeface="HGｺﾞｼｯｸM"/>
              </a:rPr>
              <a:t>スペンサー</a:t>
            </a:r>
            <a:r>
              <a:rPr b="0" i="1" lang="en-US" sz="1800" spc="-1" strike="noStrike">
                <a:solidFill>
                  <a:srgbClr val="ffffff"/>
                </a:solidFill>
                <a:latin typeface="Corbel"/>
                <a:ea typeface="HGｺﾞｼｯｸM"/>
              </a:rPr>
              <a:t>(Spencer)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TextBox 1"/>
          <p:cNvSpPr/>
          <p:nvPr/>
        </p:nvSpPr>
        <p:spPr>
          <a:xfrm>
            <a:off x="76320" y="5105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By: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nime is a type of animation made popular in Japan in the 1910’s. However, there was a discovery in 2005 of a 3-second anime thought to be made in 1905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ere was a major anime studio in the 1920’s which was destroyed by the great  </a:t>
            </a:r>
            <a:r>
              <a:rPr b="0" lang="ja-JP" sz="1800" spc="-1" strike="noStrike">
                <a:solidFill>
                  <a:srgbClr val="ffffff"/>
                </a:solidFill>
                <a:latin typeface="Corbel"/>
                <a:ea typeface="HGｺﾞｼｯｸM"/>
              </a:rPr>
              <a:t>かんとう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  <a:ea typeface="HGｺﾞｼｯｸM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  <a:ea typeface="HGｺﾞｼｯｸM"/>
              </a:rPr>
              <a:t>earthquake which caused all the artists to spread out and establish their own studio’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ome of the shows that have helped anime grow more popular in the West during the 1980’s were Dragonball, </a:t>
            </a:r>
            <a:r>
              <a:rPr b="0" lang="ja-JP" sz="1800" spc="-1" strike="noStrike">
                <a:solidFill>
                  <a:srgbClr val="ffffff"/>
                </a:solidFill>
                <a:latin typeface="Corbel"/>
                <a:ea typeface="HGｺﾞｼｯｸM"/>
              </a:rPr>
              <a:t>ユギオー</a:t>
            </a:r>
            <a:r>
              <a:rPr b="0" lang="en-CA" sz="1800" spc="-1" strike="noStrike">
                <a:solidFill>
                  <a:srgbClr val="ffffff"/>
                </a:solidFill>
                <a:latin typeface="Corbel"/>
                <a:ea typeface="HGｺﾞｼｯｸM"/>
              </a:rPr>
              <a:t>(YUGI-OH), and Gunda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Some other animes are: Pokemon, Naruto, and One Piec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lthough it started growing in popularity in the early 1910’s it wasn’t until the 1980’s that anime was accepted in the mainstream and finally reached fever pitch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History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6" name="TextBox 3"/>
          <p:cNvSpPr/>
          <p:nvPr/>
        </p:nvSpPr>
        <p:spPr>
          <a:xfrm>
            <a:off x="4724280" y="617220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wipe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Pokem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Dragonbal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YUGI-OH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Naruto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One Piec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Gundam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Corbel"/>
              </a:rPr>
              <a:t>Shows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19" name="Picture 11" descr="http://t3.gstatic.com/images?q=tbn:ANd9GcSKahC3qyv6Ru78-f4Ie3L1QyZeFx16W2NaFcGg8nQDAx9jx0IEig"/>
          <p:cNvPicPr/>
          <p:nvPr/>
        </p:nvPicPr>
        <p:blipFill>
          <a:blip r:embed="rId1"/>
          <a:stretch/>
        </p:blipFill>
        <p:spPr>
          <a:xfrm>
            <a:off x="2362320" y="1143000"/>
            <a:ext cx="3657600" cy="549576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http://collider.com/wp-content/uploads/mobile-suit-gundam-wing.jpg"/>
          <p:cNvPicPr/>
          <p:nvPr/>
        </p:nvPicPr>
        <p:blipFill>
          <a:blip r:embed="rId2"/>
          <a:stretch/>
        </p:blipFill>
        <p:spPr>
          <a:xfrm>
            <a:off x="2514600" y="2362320"/>
            <a:ext cx="5105520" cy="38289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9" descr="http://images5.fanpop.com/image/photos/25000000/Egyptian-Gods-yu-gi-oh-25008438-573-430.jpg"/>
          <p:cNvPicPr/>
          <p:nvPr/>
        </p:nvPicPr>
        <p:blipFill>
          <a:blip r:embed="rId3"/>
          <a:stretch/>
        </p:blipFill>
        <p:spPr>
          <a:xfrm>
            <a:off x="3124080" y="2666880"/>
            <a:ext cx="5265720" cy="39513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2" descr="http://t2.gstatic.com/images?q=tbn:ANd9GcQwfAXo0aBckH6KzI3KfMw8BBXgL5y2tckv9gtqzWhO6byF104P1A"/>
          <p:cNvPicPr/>
          <p:nvPr/>
        </p:nvPicPr>
        <p:blipFill>
          <a:blip r:embed="rId4"/>
          <a:stretch/>
        </p:blipFill>
        <p:spPr>
          <a:xfrm>
            <a:off x="2590920" y="2438280"/>
            <a:ext cx="5249880" cy="42037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" descr="http://media.animevice.com/uploads/0/4479/451882-one_piece_one_piece_1.jpg"/>
          <p:cNvPicPr/>
          <p:nvPr/>
        </p:nvPicPr>
        <p:blipFill>
          <a:blip r:embed="rId5"/>
          <a:stretch/>
        </p:blipFill>
        <p:spPr>
          <a:xfrm>
            <a:off x="2057400" y="20574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6" descr="http://t0.gstatic.com/images?q=tbn:ANd9GcSLqEP6ctcM9T5SGR04dNNIDKx1HIlXXJ98LDFn34EBQaNHovyg"/>
          <p:cNvPicPr/>
          <p:nvPr/>
        </p:nvPicPr>
        <p:blipFill>
          <a:blip r:embed="rId6"/>
          <a:stretch/>
        </p:blipFill>
        <p:spPr>
          <a:xfrm>
            <a:off x="2057400" y="1828800"/>
            <a:ext cx="4495680" cy="4849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5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There have been many different styles of anime, some more popular than others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Space operas, </a:t>
            </a:r>
            <a:r>
              <a:rPr b="0" i="1" lang="en-CA" sz="1800" spc="-1" strike="noStrike">
                <a:solidFill>
                  <a:srgbClr val="ffffff"/>
                </a:solidFill>
                <a:latin typeface="Corbel"/>
              </a:rPr>
              <a:t>Space Battleship Yamato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Real robot anime, </a:t>
            </a:r>
            <a:r>
              <a:rPr b="0" i="1" lang="en-CA" sz="1800" spc="-1" strike="noStrike">
                <a:solidFill>
                  <a:srgbClr val="ffffff"/>
                </a:solidFill>
                <a:latin typeface="Corbel"/>
              </a:rPr>
              <a:t>Mobile Suit Gunda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Super robot anime</a:t>
            </a:r>
            <a:r>
              <a:rPr b="0" i="1" lang="en-CA" sz="1800" spc="-1" strike="noStrike">
                <a:solidFill>
                  <a:srgbClr val="ffffff"/>
                </a:solidFill>
                <a:latin typeface="Corbel"/>
              </a:rPr>
              <a:t>, Tetsujin 28-go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ffffff"/>
                </a:solidFill>
                <a:latin typeface="Corbel"/>
              </a:rPr>
              <a:t>Martial arts anime, Dragon Bal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OVA, which are not released in the theater or on T.V. but go straight to video (This is sometimes used as a pilot to an anime such as with </a:t>
            </a:r>
            <a:r>
              <a:rPr b="0" i="1" lang="en-CA" sz="1800" spc="-1" strike="noStrike">
                <a:solidFill>
                  <a:srgbClr val="ffffff"/>
                </a:solidFill>
                <a:latin typeface="Corbel"/>
              </a:rPr>
              <a:t>Bleach)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Corbel"/>
              </a:rPr>
              <a:t>Categories of </a:t>
            </a:r>
            <a:r>
              <a:rPr b="0" lang="ja-JP" sz="4000" spc="-1" strike="noStrike">
                <a:solidFill>
                  <a:srgbClr val="ffffff"/>
                </a:solidFill>
                <a:latin typeface="Corbel"/>
                <a:ea typeface="HGｺﾞｼｯｸM"/>
              </a:rPr>
              <a:t>アニメ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The success of </a:t>
            </a:r>
            <a:r>
              <a:rPr b="0" i="1" lang="en-CA" sz="1800" spc="-1" strike="noStrike">
                <a:solidFill>
                  <a:srgbClr val="ffffff"/>
                </a:solidFill>
                <a:latin typeface="Corbel"/>
              </a:rPr>
              <a:t>Dragon Ball</a:t>
            </a: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 introduced the martial arts genre and became incredibly influential in the Japanese Animation industry. It influenced many more martial arts anime and manga series' including </a:t>
            </a:r>
            <a:r>
              <a:rPr b="0" i="1" lang="en-CA" sz="1800" spc="-1" strike="noStrike">
                <a:solidFill>
                  <a:srgbClr val="ffffff"/>
                </a:solidFill>
                <a:latin typeface="Corbel"/>
              </a:rPr>
              <a:t>One Piece</a:t>
            </a: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, and </a:t>
            </a:r>
            <a:r>
              <a:rPr b="0" i="1" lang="en-CA" sz="1800" spc="-1" strike="noStrike">
                <a:solidFill>
                  <a:srgbClr val="ffffff"/>
                </a:solidFill>
                <a:latin typeface="Corbel"/>
              </a:rPr>
              <a:t>Naruto</a:t>
            </a: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One of the most influential anime of all time, </a:t>
            </a:r>
            <a:r>
              <a:rPr b="0" i="1" lang="en-CA" sz="1800" spc="-1" strike="noStrike">
                <a:solidFill>
                  <a:srgbClr val="ffffff"/>
                </a:solidFill>
                <a:latin typeface="Corbel"/>
              </a:rPr>
              <a:t>Nausicaa of the Valley of the Wind</a:t>
            </a: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 allowed director Hayao Miyazaki and his longtime colleague Isao Takahata to set up their own studio under the supervision of former </a:t>
            </a:r>
            <a:r>
              <a:rPr b="0" i="1" lang="en-CA" sz="1800" spc="-1" strike="noStrike">
                <a:solidFill>
                  <a:srgbClr val="ffffff"/>
                </a:solidFill>
                <a:latin typeface="Corbel"/>
              </a:rPr>
              <a:t>Animage</a:t>
            </a: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 editor Toshio Suzuki. This studio would become known as Studio Ghibli which puts out movies such as </a:t>
            </a:r>
            <a:r>
              <a:rPr b="0" i="1" lang="en-CA" sz="1800" spc="-1" strike="noStrike">
                <a:solidFill>
                  <a:srgbClr val="ffffff"/>
                </a:solidFill>
                <a:latin typeface="Corbel"/>
              </a:rPr>
              <a:t>My Neighbor Totoro, Kiki’s Delivery Service, and Spirited Away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Corbel"/>
                <a:ea typeface="HGｺﾞｼｯｸM"/>
              </a:rPr>
              <a:t>アニメ</a:t>
            </a:r>
            <a:r>
              <a:rPr b="0" lang="en-CA" sz="4000" spc="-1" strike="noStrike">
                <a:solidFill>
                  <a:srgbClr val="ffffff"/>
                </a:solidFill>
                <a:latin typeface="Corbel"/>
                <a:ea typeface="HGｺﾞｼｯｸM"/>
              </a:rPr>
              <a:t> </a:t>
            </a:r>
            <a:r>
              <a:rPr b="0" lang="en-CA" sz="4000" spc="-1" strike="noStrike">
                <a:solidFill>
                  <a:srgbClr val="ffffff"/>
                </a:solidFill>
                <a:latin typeface="Corbel"/>
                <a:ea typeface="HGｺﾞｼｯｸM"/>
              </a:rPr>
              <a:t>that were influential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04920" y="144756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Toei Animation was founded in 1948 and they released the first colour anime feature film in 1958, </a:t>
            </a:r>
            <a:r>
              <a:rPr b="0" lang="ja-JP" sz="1800" spc="-1" strike="noStrike">
                <a:solidFill>
                  <a:srgbClr val="ffffff"/>
                </a:solidFill>
                <a:latin typeface="Corbel"/>
                <a:ea typeface="HGｺﾞｼｯｸM"/>
              </a:rPr>
              <a:t>はくじゃでん</a:t>
            </a:r>
            <a:r>
              <a:rPr b="0" lang="en-CA" sz="1800" spc="-1" strike="noStrike">
                <a:solidFill>
                  <a:srgbClr val="ffffff"/>
                </a:solidFill>
                <a:latin typeface="Corbel"/>
                <a:ea typeface="HGｺﾞｼｯｸM"/>
              </a:rPr>
              <a:t>(</a:t>
            </a:r>
            <a:r>
              <a:rPr b="0" i="1" lang="en-CA" sz="1800" spc="-1" strike="noStrike">
                <a:solidFill>
                  <a:srgbClr val="ffffff"/>
                </a:solidFill>
                <a:latin typeface="Corbel"/>
              </a:rPr>
              <a:t>The Tale of the White Serpent). </a:t>
            </a: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It was more Disney in tone due to its musical numbers and animal sidekicks.</a:t>
            </a:r>
            <a:r>
              <a:rPr b="0" i="1" lang="en-CA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It was released in the USA in 1961 as </a:t>
            </a:r>
            <a:r>
              <a:rPr b="0" i="1" lang="en-CA" sz="1800" spc="-1" strike="noStrike">
                <a:solidFill>
                  <a:srgbClr val="ffffff"/>
                </a:solidFill>
                <a:latin typeface="Corbel"/>
              </a:rPr>
              <a:t>Panda and the Magic Serpen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From 1958 to the mid-1960s Toei continued to release films such as this</a:t>
            </a:r>
            <a:r>
              <a:rPr b="0" i="1" lang="en-CA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and went on to produce some  of the most well known anime series, </a:t>
            </a:r>
            <a:r>
              <a:rPr b="0" i="1" lang="en-CA" sz="1800" spc="-1" strike="noStrike">
                <a:solidFill>
                  <a:srgbClr val="ffffff"/>
                </a:solidFill>
                <a:latin typeface="Corbel"/>
              </a:rPr>
              <a:t>Dragon Ball </a:t>
            </a: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in 1986,</a:t>
            </a:r>
            <a:r>
              <a:rPr b="0" i="1" lang="en-CA" sz="1800" spc="-1" strike="noStrike">
                <a:solidFill>
                  <a:srgbClr val="ffffff"/>
                </a:solidFill>
                <a:latin typeface="Corbel"/>
              </a:rPr>
              <a:t>Sailor Moon</a:t>
            </a: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 in 1992,</a:t>
            </a:r>
            <a:r>
              <a:rPr b="0" i="1" lang="en-CA" sz="1800" spc="-1" strike="noStrike">
                <a:solidFill>
                  <a:srgbClr val="ffffff"/>
                </a:solidFill>
                <a:latin typeface="Corbel"/>
              </a:rPr>
              <a:t>Yu-Gi-Oh! </a:t>
            </a: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In 1998,</a:t>
            </a:r>
            <a:r>
              <a:rPr b="0" i="1" lang="en-CA" sz="1800" spc="-1" strike="noStrike">
                <a:solidFill>
                  <a:srgbClr val="ffffff"/>
                </a:solidFill>
                <a:latin typeface="Corbel"/>
              </a:rPr>
              <a:t>One Piece</a:t>
            </a: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 and </a:t>
            </a:r>
            <a:r>
              <a:rPr b="0" i="1" lang="en-CA" sz="1800" spc="-1" strike="noStrike">
                <a:solidFill>
                  <a:srgbClr val="ffffff"/>
                </a:solidFill>
                <a:latin typeface="Corbel"/>
              </a:rPr>
              <a:t>Digimon </a:t>
            </a: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in 1999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They also let each animator bring forth his own ideas which led to the movie </a:t>
            </a:r>
            <a:r>
              <a:rPr b="0" i="1" lang="en-CA" sz="1800" spc="-1" strike="noStrike">
                <a:solidFill>
                  <a:srgbClr val="ffffff"/>
                </a:solidFill>
                <a:latin typeface="Corbel"/>
              </a:rPr>
              <a:t>Hols: Prince of the Sun, </a:t>
            </a: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which was the beginning of a later movement of “progressive anime” which would eventually involve directors such as Hayao Miyazaki (creator of </a:t>
            </a:r>
            <a:r>
              <a:rPr b="0" i="1" lang="en-CA" sz="1800" spc="-1" strike="noStrike">
                <a:solidFill>
                  <a:srgbClr val="ffffff"/>
                </a:solidFill>
                <a:latin typeface="Corbel"/>
              </a:rPr>
              <a:t>Spirited Away)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Toei animation also developed the “money shot”. This cost-cutting method of animation allows for emphasis to be placed on important shots by animating them with more detail than the rest of the work 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Corbel"/>
              </a:rPr>
              <a:t>Toei Animation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18:48:12Z</dcterms:created>
  <dc:creator>Connor McMillan</dc:creator>
  <dc:description/>
  <dc:language>en-US</dc:language>
  <cp:lastModifiedBy>Doris</cp:lastModifiedBy>
  <dcterms:modified xsi:type="dcterms:W3CDTF">2012-12-20T15:31:21Z</dcterms:modified>
  <cp:revision>47</cp:revision>
  <dc:subject/>
  <dc:title>アニメ/まんが　</dc:title>
</cp:coreProperties>
</file>